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9B91-714A-43B9-BA19-9FE9582E6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5A76-8383-4A15-A6FC-40004B17B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AB5B-8231-4220-B7E7-EC5848046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6A2C-45DC-4C3E-B06F-475A56482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AB56-F32E-479D-9788-C46A3CC95A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933B-3C2D-42F4-A014-5221B3C97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C06-ACC1-46B1-AA27-7DF9F399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5E0-09EF-4A2A-9DC3-89FA0536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633-2E51-408A-89D4-7B4BABEC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D62-EC42-4E22-B2CA-41371905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361-36B8-422F-A40C-B8E5A7DF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639-ED92-4B05-8D48-EC2CF441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1A3-3B35-4A98-A623-3DC9725C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705-99A9-493A-AAEB-DB0878BE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492-18FC-4CB5-BBE2-ADD1B9FC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619-D201-4B3A-B614-BAE9B2E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528-26D5-4F37-AF22-AB1FB6A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EE4-CA52-4847-86BB-1D4E6206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3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77C1-BB9B-4C9A-A63F-EF2E57700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 and Relationships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Make Me or Break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esson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Million Leaders Mandate</a:t>
            </a:r>
            <a:br>
              <a:rPr sz="5200"/>
            </a:b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tebook 6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98360"/>
            <a:ext cx="914400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GARBAGE COLLEC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surrounds himself/herself with negative people; they gossip and spread rumors that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6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Garbage Colle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ront them with the people about whom they are talking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ir statements with objective truth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xposure to destr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redibil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 chu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and warn of what’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489640" y="4160880"/>
            <a:ext cx="357804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22860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NTROL F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This person is unable to let go and trust both God and people. They have to be in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ntrol Fr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give them highly visible positions of author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of Scriptur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to trust God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at control i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 - no human is ever really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lif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with them the many 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came through and provided for them in the pa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53080" y="3309840"/>
            <a:ext cx="223704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18576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VERIC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rustrates others by living in their own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Maver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evaluate your leadership by the maverick's respons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put them into a team ministry position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 leadership ro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y can see beyo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selve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what motivates the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courage them to see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pictur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72200" y="3919680"/>
            <a:ext cx="2664000" cy="26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320" y="152280"/>
            <a:ext cx="899136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rangling Stock Illustrations – 71 Strangling Stock Illustrations, Vectors  &amp;amp; Clipart - Dreamstime"/>
          <p:cNvPicPr/>
          <p:nvPr/>
        </p:nvPicPr>
        <p:blipFill>
          <a:blip r:embed="rId2"/>
          <a:stretch/>
        </p:blipFill>
        <p:spPr>
          <a:xfrm>
            <a:off x="1981080" y="228600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828800" y="1600200"/>
            <a:ext cx="3276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320" y="152280"/>
            <a:ext cx="8991360" cy="64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with them and communicate your desire to tru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confront them with speci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their hypocr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others who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their two-faced w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crete evidenc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uthority until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m change their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31920"/>
            <a:ext cx="9144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LD SHOUL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disengages and avoids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Cold Shoulder: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reward childish behavior by running after them each time they distance themselv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eet with them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if you've do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hur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 deep to discove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ssues that ca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o avoi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410080" y="3416400"/>
            <a:ext cx="3578400" cy="32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25440"/>
            <a:ext cx="9144000" cy="62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VOLCAN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builds steam and often erupts; they are explo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Volc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m from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calm. Ask them to s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repeat detai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lear on issues; rem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ay and exagger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soft, clear answer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them ac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019920" y="3678120"/>
            <a:ext cx="304776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52280"/>
            <a:ext cx="91440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PON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constantly in need, but gives nothing back. They us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Spon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imitations on your ability to hel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manipulate you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responsibility; challeng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maturity means giv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eiving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feel obligated or guilty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m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858000" y="2816280"/>
            <a:ext cx="20541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87480"/>
            <a:ext cx="914400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MPETI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keeps score on everything. They want to beat others and often feel that life is unf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mpeti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that a Christian's role is to "complete" others not to compete with other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m know that keep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will destine them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mis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them in finding posi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heir competitive spirit can be used by God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611680" y="35053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5880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God for wisdo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healthy yourself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give special positions to help people ge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God, yourself and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healthy people in leadershi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5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General Rules When Handl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228600" y="139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SEL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630520" y="2593800"/>
            <a:ext cx="3882960" cy="388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04920" y="378000"/>
            <a:ext cx="85341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s on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ge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ee 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19480" y="3200400"/>
            <a:ext cx="4505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91440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86000"/>
            <a:ext cx="85341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 12:18 tells us: “If possible, so far as it depends on you, be at peace with all m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key to successful relationship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 Must Affirm the Following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1657440"/>
            <a:ext cx="91440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responsible for how I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H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always responsible for how others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will take the high road and lead people well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not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mu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yself and others the way God see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r how I respond to those who are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90480"/>
            <a:ext cx="9144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RI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constantly complains and gives unwante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ri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you car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to them,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m to off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your top leader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 they may spre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critic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critic to be par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the problems they bring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 the High Road with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365800" y="2438280"/>
            <a:ext cx="3549600" cy="38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320" y="450720"/>
            <a:ext cx="90676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RTY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eels like the victim and swims in a pool of self-p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Marty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m aware that attitude is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are a leader, teach them that a leader is responsible to be "up" for those they lead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ward self-p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486400" y="43164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87280"/>
            <a:ext cx="91440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WET BLANKE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always pessimistic and is a drain on th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Wet Blank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expect them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s long as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excus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to past succe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thought would fail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dampen your enthusias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304920"/>
            <a:ext cx="91440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TEAMROLL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rolls over others and enjoys intimidating people; they are aggressive and can be ho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Steamro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influence they have before you ac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reason with them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ir insensitiv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ssue they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for or again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tand when it clearly is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 right and wrong issu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021360" y="3689280"/>
            <a:ext cx="3046320" cy="30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20:12:50Z</dcterms:created>
  <dc:creator>INJOY</dc:creator>
  <dc:description/>
  <dc:language>en-US</dc:language>
  <cp:lastModifiedBy>Monte Cyr</cp:lastModifiedBy>
  <dcterms:modified xsi:type="dcterms:W3CDTF">2022-02-19T19:52:14Z</dcterms:modified>
  <cp:revision>119</cp:revision>
  <dc:subject/>
  <dc:title>Million Leaders Mandate Notebook Six</dc:title>
</cp:coreProperties>
</file>